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AFA-7ED4-45B0-8FE6-418281D7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BFB-B577-42C3-AED4-225B0405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B7-FACE-47FD-AAF5-90743ECB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E7B-79D7-4392-9C0B-E5A59827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C3C1-AB46-476F-90D1-4B9090E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7F48-DAE2-4A38-B1ED-B41EEDA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16C-DB3E-4927-B81E-D09CF12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0F6-1C75-4980-887B-F223007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C420-0635-43C0-9975-213BAF7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E6CB-3F65-4456-AF76-9BB726A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F921-2D0E-44C2-BB44-45AAC6F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E66-586E-41A7-B080-FEBAC37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E26-AB3F-4A82-9A74-265093C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D0E-6B77-4B19-B790-27B175F4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CCB8-2505-4EEC-9C0C-A7EB8A1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599D-7917-42BD-A837-5516B232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FACF-B308-4DD7-9D86-481549D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569-BE9B-4F82-BE51-21B193F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74B-0490-4EC9-8CC2-1EF556B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97A-4E77-429E-A108-DEDD3D9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7D9-5143-4DCE-BEE8-15E61EB4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828-CD06-4111-A96F-49474753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420-5E4E-4760-B3E0-FE5EF85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A8C-566F-4D54-9464-7C39228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FEF7-619D-40E2-8ED4-8D4C15477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95EF-F2D6-4A05-A180-873BB86E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mall Group Presen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ask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e the “resident expert” about a particular type of assessment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collaboratively to design a direct-instruction style of presentation to teach the rest of the class everything they need to know about your assessment tas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Top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ary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Choi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in the Blank/Comple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al information from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ever else you ne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ation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cipatory Set (pre-assessment/hoo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of knew knowledge (Include Good &amp; Bad Examples and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ided Practice:  Students apply what they have learn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 out the assessment you created to measure student lear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 out a Student “Cheat Sheet” to help them remember the rules and guide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et your group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ew the task to make sure everyone understan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 your journey towards become a “resident exper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all your research done before class on Wednesday so you can focus on writing your learning goals and creating your presentation or assess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9:23:40Z</dcterms:created>
  <dc:creator>emu</dc:creator>
  <dc:description/>
  <dc:language>en-US</dc:language>
  <cp:lastModifiedBy>EMU User</cp:lastModifiedBy>
  <dcterms:modified xsi:type="dcterms:W3CDTF">2011-02-05T19:54:04Z</dcterms:modified>
  <cp:revision>6</cp:revision>
  <dc:subject/>
  <dc:title>Slide 1</dc:title>
</cp:coreProperties>
</file>